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B2BE-D0D4-49DB-A0C0-7EFB03C80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9157-8DA7-4955-A51C-B53F974F1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6AED-CA9D-4060-91AF-34A1FAAA7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BD84-4D24-4630-A28D-3D8D836E8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7F97-6071-47FB-8EA2-5EB7126BF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CE86-9B43-46A2-8A5D-47CD08DAF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B52A-CBAB-4B00-9C45-7D02169E0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40C1-2E29-4BBD-901F-6978C2511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6378-824D-42EE-9229-CEBBCC3BD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C901-1158-4941-8AED-44C5BC918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B68B-E956-4C57-8BD7-01BFDA173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6E4A-211E-48D0-A960-2C047D6BA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2F55A-1D08-4189-A73E-9696DE9FD3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Краткая информация о кандидате на государственную премию Красноярского кр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ата ро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разование (вуз - специальност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спирантура – специальность – дата защиты кандидатской диссер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рок обучения в докторантуре (год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ласть научных интере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щее количество публика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учный консульта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Научная иде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ктуа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полагаемая научная новиз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Дости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новные научные результаты за последние 3 год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области критических технологий и приоритетных направлений фундаментальных исследов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крытия, патенты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нографии, учебники, стать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личие охранных документов на объекты промышленной собственности и объекты авторского пра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Дости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дали, премии, дипломы конференций, конкурсов, выставок (в т.ч. в качестве научного руководител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ганизационные и коммуникативные умения (организация семинаров, конференций, симпозиумов, подготовка аспирантов, кандидатов наук за последние 5 ле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астие в проектах, грантах, соруководство НИР и ОКР по договора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зультаты совершенствования учебного процесса (учебные пособия, методические указания, методики преподаван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Планы на будуще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ланируемые научные результ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деи и формы реализации научных разработок в интересах социально-экономического развития кр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полагаемый карьерный р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мер: за предложенный (способ, метод, идею) … расширения (реализации) энергетического диапазона…, отличающийся…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рмулировка в  одном предложении за какую собственную идею вы достойны государственной премии Красноярского кр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3T03:14:48Z</dcterms:created>
  <dc:creator>Мухамедзянова</dc:creator>
  <dc:description/>
  <dc:language>en-US</dc:language>
  <cp:lastModifiedBy>Наука</cp:lastModifiedBy>
  <dcterms:modified xsi:type="dcterms:W3CDTF">2009-03-27T07:06:17Z</dcterms:modified>
  <cp:revision>12</cp:revision>
  <dc:subject/>
  <dc:title>О себе (возраст, школа, ВУЗ, аспирантура  - специальность, докторантура - специальность)</dc:title>
</cp:coreProperties>
</file>