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B6EBF-D9D7-44CD-9D02-4D79E19FA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57CB8-CA1F-43AF-BE0C-6B4C72559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357E1-74D6-484D-9C0A-40CADF023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DCB30-89E8-48EC-895D-EBA48DD42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2FBCD-BCC5-475D-BE17-E98F5A5FE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0EFB6-2800-490D-B138-EF22A1100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ACD03-B021-4E52-BF74-F91DE2B3B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073A7-E15C-4A19-BBBC-DD460D2B7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17778-3B7D-42C4-B88F-38D84C40F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75053-F25C-432C-9764-30C67F84B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D7324-74D6-4FB6-8FCF-B824B60D7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717DB-778B-4D7B-AE00-8E477D8D4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0F566-1327-4FBC-AFD0-FEF4DC008A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Краткая информация о кандидате на государственную премию Красноярского кр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ата рожд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бразование (вуз - специальность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рок обучения в аспирантуре (год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бласть научных интерес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бщее количество публикац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учный руководит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Научная иде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ктуаль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Ц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ланируемая научная новиз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Достиж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иболее значимые публикации в изданиях центральной печати, перечня ВАК ( в т.ч. за рубежом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недрение и использование результатов научных разработок на территории края (акты о внедрении, патенты, лицензирование, коммерциализация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частие в проектах, грантах, соруководство НИР и ОКР по договора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Достиж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едали и дипломы конференций, конкурс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рганизационные и коммуникативные умения (организация семинаров, конференций, симпозиумов, руководство НИР студентов и т.д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частие в инновационных конкурсах и проект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Планы на будуще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ланируемые научные результа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деи и формы реализации научных разработок в интересах социально-экономического развития кр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едполагаемый карьерный рос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мер: за предложенный (способ, метод, идею) … расширения (реализации) энергетического диапазона…, отличающийся…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8360" y="278100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Формулировка в  одном предложении за какую собственную идею вы достойны государственной премии Красноярского кр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3T02:54:14Z</dcterms:created>
  <dc:creator>Мухамедзянова</dc:creator>
  <dc:description/>
  <dc:language>en-US</dc:language>
  <cp:lastModifiedBy>Наука</cp:lastModifiedBy>
  <dcterms:modified xsi:type="dcterms:W3CDTF">2009-03-27T07:01:57Z</dcterms:modified>
  <cp:revision>12</cp:revision>
  <dc:subject/>
  <dc:title>О себе (возраст, школа, ВУЗ, специальность)</dc:title>
</cp:coreProperties>
</file>