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723C-E305-4213-B92A-41D95B18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0B56-4BE9-4BDE-892F-7CC28613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9395-8D21-4BC1-9550-576383114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AFE6-CC83-4975-AB22-FC8B9F0D6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C1D0-5EFC-446A-B589-700E5D17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E8FB-50DC-4018-B688-A6F009F1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0CD3-484B-4A83-AA27-02D1AA91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5CD2-BD90-494B-9BD9-B7F7F46D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2395-ECC7-4667-81F9-B0234084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167B-F2EB-4D18-BD45-ED09A799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0FA9-792C-4069-89C5-CCD9D5E4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FD8D-5110-4779-92A9-BB2A6F3C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AD4A-74D6-40F9-8330-ED8132F339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ткая информация о кандидате на государственную премию Краснояр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ание (вуз - специальн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пирантура – специальность – дата защиты кандидатской диссер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ок обучения в докторантуре (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ласть научных интере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ее количество публик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учный консуль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ауч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ая научная 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ые научные результаты за последние 3 го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бласти критических технологий и приоритетных направлений фундаментальных исслед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крытия, патенты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нографии, учебники, стат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ичие охранных документов на объекты промышленной собственности и объекты авторского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али, премии, дипломы конференций, конкурсов, выставок (в т.ч. в качестве научного руководит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онные и коммуникативные умения (организация семинаров, конференций, симпозиумов, подготовка аспирантов, кандидатов наук за последние 5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оектах, грантах, соруководство НИР и ОКР по догов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совершенствования учебного процесса (учебные пособия, методические указания, методики преподав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науч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и и формы реализации научных разработок в интересах социально-экономического развития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ый карьер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 за предложенный (способ, метод, идею) … расширения (реализации) энергетического диапазона…, отличающийся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овка в  одном предложении за какую собственную идею вы достойны государственной премии Красноя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3:14:48Z</dcterms:created>
  <dc:creator>Мухамедзянова</dc:creator>
  <dc:description/>
  <dc:language>en-US</dc:language>
  <cp:lastModifiedBy>Наука</cp:lastModifiedBy>
  <dcterms:modified xsi:type="dcterms:W3CDTF">2009-03-27T07:06:17Z</dcterms:modified>
  <cp:revision>12</cp:revision>
  <dc:subject/>
  <dc:title>О себе (возраст, школа, ВУЗ, аспирантура  - специальность, докторантура - специальность)</dc:title>
</cp:coreProperties>
</file>